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ct" ContentType="image/x-pict"/>
  <Override PartName="/ppt/media/image3.pct" ContentType="image/x-pict"/>
  <Override PartName="/ppt/media/image4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80795-ECD5-4836-9CED-361A02D8B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57F65-4D55-4B05-A5EF-FC495CAA8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DCE8F-103C-4D86-B4CC-A25467C4D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02796-C492-425D-B752-1107058A9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98CD6-F999-462F-B13A-AD4C5326B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DCA1B-6791-4975-BF71-9F8B4F521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EF2D3-14FB-4344-BB8D-ABF6CA788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36F5D-653B-4156-92AA-57293132E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CFA26-0761-4A0B-BB7B-11F399E10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2A61D-C8C7-4A77-B22C-271B1962D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46211-78A6-4B75-B82E-037D888A0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8FA94-CEDA-48C3-9512-121C9ED4C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A85B4-BC40-42D7-AB18-9EE314ED2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27D60-1514-4861-9E9D-B5F3DF3C8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5439F-AA75-40C4-85A0-AD5851EF1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96AB4-8F6F-41DC-B812-DFFB70AD9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A8CF0-9155-45BC-BB2A-24C240EBE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D6900-581D-4B6F-A7A6-C46776869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B2A97-11EF-4686-8BA8-9EEFC82D8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499B7-4252-450A-8E98-BE92DD87B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3080C-9A5A-4E0D-B243-CD773AA83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DE100-6291-4832-B7D4-5BAF1FDA9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2E929-196A-4D04-B8ED-615D42BC7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2BFD5-BB46-4B74-80F1-B4BA9B125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66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66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49B71-CD16-4DC0-83AD-8BBEFA3751A6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F0C55-2670-4880-80ED-3AE428EC0B36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ct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04920" y="817560"/>
            <a:ext cx="84582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Comic Sans MS"/>
              </a:rPr>
              <a:t>What compels a 21st century learner?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1523880" y="1066680"/>
            <a:ext cx="5715000" cy="41562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609480" y="304920"/>
            <a:ext cx="746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The Many Layers of Learn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0" y="533412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The many layers of a stud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1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1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7" name="Paris:Users:toni:Desktop:EDS_RunningWithTheSquirrels.mov" descr=""/>
          <p:cNvPicPr/>
          <p:nvPr/>
        </p:nvPicPr>
        <p:blipFill>
          <a:blip r:embed="rId2"/>
          <a:stretch/>
        </p:blipFill>
        <p:spPr>
          <a:xfrm>
            <a:off x="2438280" y="1905120"/>
            <a:ext cx="447048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60260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2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5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15328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gnitive Flexibility Theory</a:t>
            </a:r>
            <a:br>
              <a:rPr sz="4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. Spiro, P. Feltovitch &amp; R. Couls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0" y="1980720"/>
            <a:ext cx="4952880" cy="44197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the ability to spontaneously restructure one's knowledge, in many ways, in adaptive response to changing situational deman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emphasis is placed upon the presentation of information from multiple perspective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1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1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1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04920" y="0"/>
            <a:ext cx="8458200" cy="704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Guiding Principles of Cognitive Flexibility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1. Learning activities must provide multiple representations of conte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2. Instructional materials should avoid oversimplifying the conte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3. Instruction should emphasize knowledge construction, not transmission of informa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4. Knowledge sources should be highly interconnected rather than     compartmentaliz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1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10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10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1000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1000"/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880920" y="817560"/>
            <a:ext cx="76536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Comic Sans MS"/>
              </a:rPr>
              <a:t>In order to teach the squirrels,   you must think like the squirrels!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sh dir="r"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1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880920" y="817560"/>
            <a:ext cx="765360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Comic Sans MS"/>
              </a:rPr>
              <a:t>How do we make learning compelling for our 21st century students?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sh dir="r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1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838080" y="838080"/>
            <a:ext cx="7620120" cy="57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Comic Sans MS"/>
                <a:ea typeface="MS Pゴシック"/>
              </a:rPr>
              <a:t>What new eyes are you seeking?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990720" y="4800600"/>
            <a:ext cx="2590560" cy="16794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077320" cy="586728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omic Sans MS"/>
              </a:rPr>
              <a:t>Toni Theisen</a:t>
            </a:r>
            <a:br>
              <a:rPr sz="6000"/>
            </a:b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Loveland High School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Thompson School District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Loveland, CO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970-482-2606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dakar95@verinet.com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1T12:17:45Z</dcterms:created>
  <dc:creator>Toni Theisen</dc:creator>
  <dc:description/>
  <dc:language>en-US</dc:language>
  <cp:lastModifiedBy>Toni Theisen</cp:lastModifiedBy>
  <dcterms:modified xsi:type="dcterms:W3CDTF">2006-10-15T21:01:57Z</dcterms:modified>
  <cp:revision>28</cp:revision>
  <dc:subject/>
  <dc:title>PowerPoint Presentation</dc:title>
</cp:coreProperties>
</file>